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F5F6F-05CC-44A9-9732-3F6CFE433B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se symptoms may last for only a few weeks. Then there are usually no HIV symptoms for many years. That is why it can be hard to know if you have HIV. </a:t>
            </a:r>
            <a:endParaRPr b="0" lang="en-US" sz="8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fortunately, these drugs are often expensive, unattainable and cause a number of unpleasant side effects. These drugs are also not effective for everyone. </a:t>
            </a:r>
            <a:endParaRPr b="0" lang="en-US" sz="600" spc="-1" strike="noStrike">
              <a:solidFill>
                <a:srgbClr val="000000"/>
              </a:solidFill>
              <a:latin typeface="Arial"/>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sores disappear, symptoms of genital herpes usually do not appear again for a long period of tim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F83613-B56F-469C-AD96-8CD8D81496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DA595-D74E-404D-99A9-2B7739922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388FDF-C1A2-478C-819A-C104AABAD1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D051EB-E663-4544-9C06-CB271B7581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AE574-A7F2-40C1-84B8-42F72D43F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B4B6F-BD83-4ED7-9E1E-85C9BA138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D6E00-D93B-4095-B2EB-A9B14BE21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D7DE5-25FC-4C89-81D4-B48CF6D2A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51EAB-3A15-49FE-A6FB-95547057C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32917-9BE8-4655-8931-B9D1FD973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0E5DC-953C-4EBE-95F1-8C3F0CD81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6AB00-595F-4B59-B6D1-F876C6506E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CECA3-C7E9-4E04-B8C3-2F5119796E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D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y Caito and Jillian Ch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istic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 to 8 out of 10 American adults have oral herpes. And about 1 out of 4 American adults have genital herpes. However, millions of people do not know they have herpes because they never had, or noticed, the herpes symptom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 To Find Help</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norhea</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phyli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lamydia</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V/AID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DS stands for Acquired Immune Deficiency Syndrome. HIV stands for Human Immunodeficiency Viru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erson can acquire this virus when they come in contact with the breast milk, semen, vaginal secretions, or blood of an infected person.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V causes AID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V has few or no symptoms for up to 10 years or more before symptoms of AIDS develop.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ymptoms of HIV are swollen glands in the throat, armpit, or groin, slight fever, headaches, fatigue, and muscle ach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ymptoms of AIDS, the advanced stage of HIV are frequent bouts of sickness, quick bruising, coughing, shortness of breath, and decreased mental abilit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V/AIDS in not curable as it is a virus. However, there are treatments that help strengthen the immune system against the virus. People with HIV/AIDS often take combinations of medicines called "cocktail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ital Warts</a:t>
            </a:r>
            <a:endParaRPr b="0" lang="en-US" sz="4400" spc="-1" strike="noStrike">
              <a:solidFill>
                <a:srgbClr val="000000"/>
              </a:solidFill>
              <a:latin typeface="Arial"/>
            </a:endParaRPr>
          </a:p>
        </p:txBody>
      </p:sp>
      <p:sp>
        <p:nvSpPr>
          <p:cNvPr id="59" name="PlaceHolder 2"/>
          <p:cNvSpPr>
            <a:spLocks noGrp="1"/>
          </p:cNvSpPr>
          <p:nvPr>
            <p:ph/>
          </p:nvPr>
        </p:nvSpPr>
        <p:spPr>
          <a:xfrm>
            <a:off x="380880" y="1295280"/>
            <a:ext cx="8229600" cy="4525920"/>
          </a:xfrm>
          <a:prstGeom prst="rect">
            <a:avLst/>
          </a:prstGeom>
          <a:noFill/>
          <a:ln w="0">
            <a:noFill/>
          </a:ln>
        </p:spPr>
        <p:txBody>
          <a:bodyPr lIns="90000" rIns="90000" tIns="46800" bIns="46800" anchor="t">
            <a:normAutofit/>
          </a:bodyPr>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enital warts are growths on the skin of the genital area and around the anus. They are sometimes even found in the mouth</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y are caused by certain types of the HPV virus.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enital warts are spread through skin to skin contact, even if there are no warts present at the time, if one of the partners is infected, the other can still get genital warts.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mon genital warts are usually flesh-colored, soft-to-the-touch bumps on the skin that may look like the surface of a cauliflower. They often grow in more than one place and may cluster in large masses. Genital warts usually are painless, but may itch.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lthough genital warts are caused by a virus, the body can naturally fight off this virus, allowing the warts to go away by themselves if they are given time. However, there are some treatments that can be used to get rid of the warts only. Special medicines can be spread on the warts or they can be either frozen or burned off. </a:t>
            </a:r>
            <a:endParaRPr b="0" lang="en-US" sz="1700" spc="-1" strike="noStrike">
              <a:solidFill>
                <a:srgbClr val="000000"/>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pes</a:t>
            </a:r>
            <a:endParaRPr b="0" lang="en-US" sz="4400" spc="-1" strike="noStrike">
              <a:solidFill>
                <a:srgbClr val="000000"/>
              </a:solidFill>
              <a:latin typeface="Arial"/>
            </a:endParaRPr>
          </a:p>
        </p:txBody>
      </p:sp>
      <p:sp>
        <p:nvSpPr>
          <p:cNvPr id="61" name="PlaceHolder 2"/>
          <p:cNvSpPr>
            <a:spLocks noGrp="1"/>
          </p:cNvSpPr>
          <p:nvPr>
            <p:ph/>
          </p:nvPr>
        </p:nvSpPr>
        <p:spPr>
          <a:xfrm>
            <a:off x="533160" y="1142640"/>
            <a:ext cx="8305560" cy="525780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caused by two different but closely related viruses that remain in the body for life and can produce symptoms that come and go. Oral herpes is caused by one virus while genital herpes is caused by another.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l herpes appear as cold sores that last a few weeks. These are generally harmless and only occur once in a whi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ital herpes often does not have symptoms or has very faint symptoms. The first symptom is the appearance of a small cluster of blisters in the genital area that disappears in a few week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ymptoms of genital herpes could include pain in an infected area, a burning sensation during urination, flu-like symptoms, itching, and open sor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no cure for herpes, but there is treatment. Certain medicines can be taken that speed the healing of the sores or pain relievers can be taken to alleviate any pain. Cotton clothing can be worn to prevent chaffing and ice packs held to the effected are soothing.</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pes is spread by touching, kissing, or sexual contact. Although it is rare, it can also be spread during vaginal birth.</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pes is most contagious when sores are open, moist, or leaking fluid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patiti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vention</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15:39:37Z</dcterms:created>
  <dc:creator>FCSD</dc:creator>
  <dc:description/>
  <dc:language>en-US</dc:language>
  <cp:lastModifiedBy>Sam</cp:lastModifiedBy>
  <dcterms:modified xsi:type="dcterms:W3CDTF">2009-07-14T02:41:28Z</dcterms:modified>
  <cp:revision>5</cp:revision>
  <dc:subject/>
  <dc:title>STDs</dc:title>
</cp:coreProperties>
</file>